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E03D-429C-422F-8621-A7861D53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09F2-39C0-428E-8C01-9D53E3C1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9A80-4CD2-447C-B0DA-BDAE13C41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6889-DF71-4D06-9002-585FA9CF4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F98D-4AE4-4D12-A32E-D4A6DE660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B2F2-69A2-472C-A22A-56292070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8697-BF64-4E69-844A-FDFC6F84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00C5-CA48-4E33-815F-D2CBA50B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9CAF-5B7F-49E7-8A63-E168B05A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71B8-CF8A-4E95-8676-127B7E44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91C2-61B6-4632-8858-2E4EDE2A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C327-FA2A-4E9A-B58B-9A8B77D7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1BC4-887F-436C-9EB2-CC0C97D3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D065-FD01-4D88-914A-B23981E9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E0D3-E336-44A4-A94B-0BE34D82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8C37-AB6D-4EB4-9F42-DA1EAB650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4E44-0E5C-4570-89DF-E07A272AE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7BB2-3417-4C0B-A3C5-1E56B877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815E-533F-49EE-8F7B-C43F1E44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D065-E43F-4C40-82DC-CE661786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3D52-4752-456D-870B-29E04329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73A3-7F3F-4AB7-8F39-55AF5B0F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D5A1-AFC3-45D0-8585-54DE87CD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C13F-1D6B-49C2-B076-4B8E3B15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F47C-25E1-4589-B71B-CA461E737E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9A08-2BBE-4E96-8A7E-BAE1C242B6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lang="en-US" sz="6600" spc="-1" strike="noStrike">
                <a:solidFill>
                  <a:srgbClr val="b2b2b2"/>
                </a:solidFill>
                <a:latin typeface="Comic Sans MS"/>
              </a:rPr>
              <a:t>Ящур</a:t>
            </a: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Comic Sans MS"/>
              </a:rPr>
              <a:t>Эпизоотологические данные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Наиболее восприимчивы к ящуру крупный рогатый скот и свиньи; овцы и козы, а также дикие парнокопытные животные менее чувствительны. Имеются наблюдения об адаптации вируса к отдельным видам животных, например к свиньям или овц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Заражение животных происходит преимущественно через слизистые оболочки ротовой полости при поедании кормов и питья, облизывании различных инфицированных предметов. Вирус может проникать в организм через поврежденную кожу вымени и конечностей (чаще) и аэрогенно при совместном содержан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атогене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Входными воротами для вируса служат в первую очередь слизистые оболочки ротовой полости и дыхательных путей. Первичная репродукция вируса происходит уже через 18 ч после заражения в слизистой оболочке глотки, лимфоузлах и миндалинах головы и шеи. В местах внедрения вируса образуются первичные афты. Отсюда вирус по лимфатическим путям попадает в кровь и затем в органы лимфоидно-микрофагальной системы, где имеются оптимальные условия для обильного накопления его и образования очага инфекции, предшествовавшего развитию повторной виремии. Клинически эта фаза болезни проявляется повышением температуры тела, быстрым образованием вторичных или генерализованных афт и экзантемы на не покрытых волосами участках кожи (носовое зеркало, носовые отверстия, кожа вымени, иногда мошонка и корни рога), на слизистых оболочках (ротовой полости, пищевода, рубца, влагалища) и на коже вокруг копыт (венчика, межкопытной щели, мякишей). Обычно это происходит через 48 ч после заражения или несколько позж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Comic Sans MS"/>
              </a:rPr>
              <a:t>Течение и симптомы.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Наиболее характерно признаки болезни выражены у взрослого крупного рогатого скота. У других восприимчивых животных, особенно у ягнят, поросят и телят, они могут быть менее типичными. Возможно доброкачественное и злокачественное проявление ящура. Инкубационный период длится от 36 ч до 7 дней, очень редко — до 21 дн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Первый признак заболевания — повышение температуры тела животного до 41 °С и выше. У больных отмечают состояние прострации, учащение пульса, покраснение слизистой оболочки ротовой полости и конъюнктивы, нарушение жвачки и уменьшение выделения молока, сухость носового зеркальца, отечность венчика копыт. Голова у животных опущена, они часто стонут. Затем начина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ется обильное слюноотделение, которое сопровождается скрежетом зубов и равномерным причмокиванием. Животные очень осторожно пережевывают корм, глотание болезненно. У них возникает жажда, появляется хромота. На коже венчика копыт и межкопытной щели заметны отечность, отмечается повышенная чувствительность. Животные стараются не наступать на пораженную конечность, часто переступают с ноги на ногу. Через 3 дня заболевания температура тела снижается и появляется экзантема. При осмотре полости рта находят значительные пораж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Покраснение слизистой оболочки  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ротовой пол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908000" y="836640"/>
            <a:ext cx="46213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Дегенеративные изменения в мышце сердца («тигровое сердце»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484360" y="549360"/>
            <a:ext cx="453564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15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Поражение дес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260280"/>
            <a:ext cx="48258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На внутренней поверхности языка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появляются  аф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5472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362800" cy="27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2b2b2"/>
                </a:solidFill>
                <a:latin typeface="Arial"/>
              </a:rPr>
              <a:t>Ящур у свиней протекает с образованием афт на «пятачке», вымени и на венчике копытец. Животные много лежат, передвигаются ползком, опираясь на запястные суставы. При развитии экссудативного процесса и травмировании больных конечностей происходит отслоение и спадение рогового башмака. В неблагополучном стаде от ящура обычно погибают все поросята-сосуны.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2421000"/>
            <a:ext cx="835164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2637000"/>
            <a:ext cx="3529080" cy="3384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356000" y="2708280"/>
            <a:ext cx="35989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Отслоение и спадение рогового башмака у  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свин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38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219640" y="907920"/>
            <a:ext cx="2808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63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Ящур (Aphtae epizooticae) — высококонтагиозная, остропротекающая вирусная болезнь домашних и диких парнокопытных животных, характеризующаяся лихорадкой и афтозными поражениями слизистой оболочки ротовой полости, кожи вымени и конечносте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Comic Sans MS"/>
              </a:rPr>
              <a:t>Диагноз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Ставят его на основании анализа эпизоотических данных, клинических признаков и результатов лабораторных исследований. Разработан ряд методов, позволяющих в течение короткого времени исследовать патологический материал с целью установления или исключения ящура. В лабораторию направляют кровь, стенки и содержимое афт, кусочки сердечной мышцы, на вирусоносительство – соскобы со слизистой оболочки глотки или пищев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9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Comic Sans MS"/>
              </a:rPr>
              <a:t>Лабораторная диагностик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. Экспресс- методы: РИФ, РС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. Вирусологические исследования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а) Выделение вируса на мышатах- сосунах, морских свинках, культуре клеток свиной почки и щитовидной железы, естественно – восприимчивых живот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б) идентификация выделенного вируса в РСК, РДП, РПГА, Р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3. Ретроспективная диагностика : РПСК, РДП, РИД, РНИФ, РН, РУС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9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9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Comic Sans MS"/>
              </a:rPr>
              <a:t>Иммунитет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Продолжительность иммунитета у КРС, переболевшего ящуром составляет 8-12 мес, у свиней 10-12, у овец около 18 мес.При ящуре возникает тканевый и гуморальный иммунитет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Comic Sans MS"/>
              </a:rPr>
              <a:t>Лечение.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Больных животных выделяют из стада в изолированное помещение (летний лагерь, навес) и лечат иммунолактоном, лактоглобулином, сывороткой (кровью) реконвалесцентов. Животным дают мягкие питательные корма и чистую воду. Ротовую полость промывают вяжущими и антисептическими препаратами. Пораженные участки конечностей и вымени обрабатывают хирургическим способом и затем применяют различные лечебные мази, обезболивающие средства и антибиотики. При необходимости больным животным вводят сердечные препараты и внутривенно растворы глюкозы, хлорида кальция и хлорида натр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ервое сообщение о заболевании животных ящуром сделано в Италии (Fracastro, 1546). Болезнь животных, сопровождающуюся обильным слюнотечением, неоднократно отмечали в ряде стран Европы в XVII—XIX вв. Вирусную природу ящура установили Леффлер и Фрош (1898), а плюралитет (множественность) возбудителя — Балле и Карре (1922), что имело большое практическое значение в разработке средств специфической диагностики и профилактики болез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озбудитель — РНК-содержащий вирус, относящийся к роду риновирусов семейства Picornaviridae. Размер вириона 20—25 нм. Вирус имеет сложный белковый (антигенный) состав. По антигенным свойствам его подразделяют на 7 серологических тип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Строение вируса ящура под электронным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микроскоп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76360" y="620640"/>
            <a:ext cx="597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Модель виру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68360" y="549360"/>
            <a:ext cx="4537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Вирус хорошо репродуцируется в культурах клеток эпителиальных тканей восприимчивых животных с проявлением ЦПД. Обладает высокой вирулентностью — 104,5 — 106ИД50/мл для мышат-сосунов. Пассирование вируса легко осуществляется на лабораторных животных (морских свинках, мышатах и крольчатах). В организме животных вирус индуцирует образование вируснейтрализующих, комплементфиксирующих и преципитирующих антител, специфических для каждого серотипа возбудителя. Поэтому РПГА, РН, PCK, реакция серозащиты и перекрестного иммунитета используются для дифференциации серотипов и вариантов вируса ящу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Comic Sans MS"/>
              </a:rPr>
              <a:t>Устойчивость.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Вирус устойчив к эфиру и хлороформу, не инактивируется 1 %-ным раствором фенола, 75 %-ным этиловым спиртом, выдерживает действие лизола и толуола в концентрациях, убивающих ряд других вирусов и бактерий. Он чувствителен к изменению рН среды (при рН ниже 6 и выше 10 инфицированность среды быстро теряется). Устойчивость вируса значительно повышается, если он содержится в отторгнутых стенках афт. На горных пастбищах может сохраняться до следующего пастбищного сезона; в сточных водах в холодное время года выживает до 103 дней, в летнее — 21 день, осенью — 49 дней. На шерстном покрове животного вирус сохраняется до 50 дней, на одежде — до 100, в помещениях —до 70 дней. Вирус обладает большой устойчивостью к химическим веществам, и широко применяемые для дезинфекции растворы хлорной извести, фенола и креолина убивают его лишь через несколько часов. Лучшими дезинфицирующими средствами являются растворы формальдегида (2 %-ный) и гидроокиси натрия (1—2 %-ный), губительно действующие на вирус ящура в первые 10—30 ми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Comic Sans MS"/>
              </a:rPr>
              <a:t>Культивирование</a:t>
            </a:r>
            <a:br>
              <a:rPr sz="6000"/>
            </a:b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ирус культивируется на естественно – восприимчивых и лабораторных животных: новорожденных мышатах и крольчатах, морских свинках, хомяках 60-суточного возраста. Хорошо репродуцируются в культуре клеток почек чувствительных животных, в культуре эксплантантов эпителия языка КРС и в некоторых перевиваемых линиях клеток с выраженным ЦП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11:22:57Z</dcterms:created>
  <dc:creator>Клиент</dc:creator>
  <dc:description/>
  <dc:language>en-US</dc:language>
  <cp:lastModifiedBy>Admin</cp:lastModifiedBy>
  <dcterms:modified xsi:type="dcterms:W3CDTF">2012-04-24T10:46:15Z</dcterms:modified>
  <cp:revision>13</cp:revision>
  <dc:subject/>
  <dc:title>Листериоз</dc:title>
</cp:coreProperties>
</file>